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5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1.gif" ContentType="image/gif"/>
  <Override PartName="/ppt/media/image23.png" ContentType="image/png"/>
  <Override PartName="/ppt/media/image13.jpeg" ContentType="image/jpeg"/>
  <Override PartName="/ppt/media/image44.png" ContentType="image/png"/>
  <Override PartName="/ppt/media/image6.png" ContentType="image/png"/>
  <Override PartName="/ppt/media/image36.png" ContentType="image/png"/>
  <Override PartName="/ppt/media/image42.png" ContentType="image/png"/>
  <Override PartName="/ppt/media/image45.png" ContentType="image/png"/>
  <Override PartName="/ppt/media/image47.png" ContentType="image/png"/>
  <Override PartName="/ppt/media/image51.png" ContentType="image/png"/>
  <Override PartName="/ppt/media/image49.png" ContentType="image/png"/>
  <Override PartName="/ppt/media/image56.gif" ContentType="image/gif"/>
  <Override PartName="/ppt/media/image50.png" ContentType="image/png"/>
  <Override PartName="/ppt/media/image11.png" ContentType="image/png"/>
  <Override PartName="/ppt/media/image48.png" ContentType="image/png"/>
  <Override PartName="/ppt/media/image53.png" ContentType="image/png"/>
  <Override PartName="/ppt/media/image43.png" ContentType="image/png"/>
  <Override PartName="/ppt/media/image52.jpeg" ContentType="image/jpeg"/>
  <Override PartName="/ppt/media/image33.png" ContentType="image/png"/>
  <Override PartName="/ppt/media/image55.png" ContentType="image/png"/>
  <Override PartName="/ppt/media/image46.png" ContentType="image/png"/>
  <Override PartName="/ppt/media/image58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ED10-DB06-4797-8FF7-FD2336082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3C9-E1C9-4B4A-88FA-C13E5958C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074-1A6C-44F1-BC30-D0FA8F8ED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41D-650E-47D8-8669-1BB834DE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647-C59A-4686-9ABF-FCB40FBB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583-75A0-4161-8F15-E3A5EE05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A31-B049-41E2-AFD6-33029492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362-9132-49CB-A20C-4D5B020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B63-C411-44F6-9F35-8ED8FE25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9C8-AFC2-43BE-8368-0F349B74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14F-ADC8-4605-A306-5D0CEEC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4FD-C49C-4294-94F4-04E54509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63B-1BA3-4142-B190-7DB1451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BE7-4E2E-4A8A-84A8-06884C8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DB2-96D3-4C2C-ADB1-ECD5A81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C09-F817-424C-94DB-BCA3E2318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15.png"/><Relationship Id="rId3" Type="http://schemas.openxmlformats.org/officeDocument/2006/relationships/hyperlink" Target="http://learningapps.org/720662" TargetMode="External"/><Relationship Id="rId4" Type="http://schemas.openxmlformats.org/officeDocument/2006/relationships/image" Target="../media/image57.png"/><Relationship Id="rId5" Type="http://schemas.openxmlformats.org/officeDocument/2006/relationships/hyperlink" Target="http://learningapps.org/1241527" TargetMode="External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4" descr=""/>
          <p:cNvPicPr/>
          <p:nvPr/>
        </p:nvPicPr>
        <p:blipFill>
          <a:blip r:embed="rId1"/>
          <a:stretch/>
        </p:blipFill>
        <p:spPr>
          <a:xfrm>
            <a:off x="139680" y="1895400"/>
            <a:ext cx="8943840" cy="207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724280" y="5334120"/>
            <a:ext cx="42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ькова Светла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СОШ № 1 г. Гулькевичи Краснодар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5228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информатики 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Администратор\Мои документы\Мои рисунки\img034.jpg"/>
          <p:cNvPicPr/>
          <p:nvPr/>
        </p:nvPicPr>
        <p:blipFill>
          <a:blip r:embed="rId2"/>
          <a:stretch/>
        </p:blipFill>
        <p:spPr>
          <a:xfrm>
            <a:off x="341280" y="4584600"/>
            <a:ext cx="31939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581120" y="304920"/>
            <a:ext cx="75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Десятичн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786040" y="4214880"/>
            <a:ext cx="4322880" cy="716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Стенд - будда"/>
          <p:cNvPicPr/>
          <p:nvPr/>
        </p:nvPicPr>
        <p:blipFill>
          <a:blip r:embed="rId2"/>
          <a:stretch/>
        </p:blipFill>
        <p:spPr>
          <a:xfrm>
            <a:off x="228600" y="228600"/>
            <a:ext cx="2000160" cy="4051440"/>
          </a:xfrm>
          <a:prstGeom prst="rect">
            <a:avLst/>
          </a:prstGeom>
          <a:ln w="9360">
            <a:solidFill>
              <a:srgbClr val="0099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6" name="Rectangle 6"/>
          <p:cNvSpPr/>
          <p:nvPr/>
        </p:nvSpPr>
        <p:spPr>
          <a:xfrm>
            <a:off x="2674800" y="1500120"/>
            <a:ext cx="5900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Цифр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4567890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ожились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нд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кол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0 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0200" y="2857680"/>
            <a:ext cx="52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рабы стали пользоваться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добной нумерацией окол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00 г.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647080" y="5072040"/>
            <a:ext cx="482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имерно 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200 г. н. э.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э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умерацию нач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именять в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админ\Desktop\к уроку картинки\185368_html_m4def61be.png"/>
          <p:cNvPicPr/>
          <p:nvPr/>
        </p:nvPicPr>
        <p:blipFill>
          <a:blip r:embed="rId3"/>
          <a:stretch/>
        </p:blipFill>
        <p:spPr>
          <a:xfrm>
            <a:off x="-228600" y="4162320"/>
            <a:ext cx="2876400" cy="269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mage002"/>
          <p:cNvPicPr/>
          <p:nvPr/>
        </p:nvPicPr>
        <p:blipFill>
          <a:blip r:embed="rId4"/>
          <a:stretch/>
        </p:blipFill>
        <p:spPr>
          <a:xfrm>
            <a:off x="7467480" y="2895480"/>
            <a:ext cx="14004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админ\Desktop\к уроку картинки\185368_html_m4def61be.png"/>
          <p:cNvPicPr/>
          <p:nvPr/>
        </p:nvPicPr>
        <p:blipFill>
          <a:blip r:embed="rId1"/>
          <a:stretch/>
        </p:blipFill>
        <p:spPr>
          <a:xfrm>
            <a:off x="-380880" y="4162320"/>
            <a:ext cx="2876400" cy="26956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457200" y="1522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Система счисления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способ записи чисел с помощью заданного набора специальных знаков (цифр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1828800" y="4057560"/>
            <a:ext cx="716292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  <a:ea typeface="Times New Roman"/>
              </a:rPr>
              <a:t>непозиционна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енные значения символов, используемых для записи чисел, не зависят от их положения в записи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1981080" y="5429160"/>
            <a:ext cx="662940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  <a:ea typeface="Times New Roman"/>
              </a:rPr>
              <a:t>позиционна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енные значения символов, используемых для записи чисел, зависят от их положения в записи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608400" y="1752480"/>
            <a:ext cx="7738200" cy="703800"/>
          </a:xfrm>
          <a:prstGeom prst="rect">
            <a:avLst/>
          </a:prstGeom>
          <a:solidFill>
            <a:srgbClr val="b7e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Алфавит системы счисления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 знаков, используемых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е счисления для записи чисел назы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228600" y="2590920"/>
            <a:ext cx="8381880" cy="398880"/>
          </a:xfrm>
          <a:prstGeom prst="rect">
            <a:avLst/>
          </a:prstGeom>
          <a:solidFill>
            <a:srgbClr val="b7e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Основание системы счисле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знаков в алфавит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2002680" y="3429000"/>
            <a:ext cx="54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ИДЫ СИСТЕМ СЧИСЛ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лфав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есятичной позиционной системы счисления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,1,2,3,4,5,6,7,8,9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ссмотрим примеры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,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ждом числе есть цифр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ервом числе: «5»-число единиц (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втором числе: «5»-число десятков (50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числе: «5»-число сотен (500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, система счисле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зи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-360" y="-36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4586 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ru-RU" sz="4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10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с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онумеруем позиции цифр (0 - это позиция единиц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- позиция десятков, 2- позиция сотен и т.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  2   1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4586 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 2  1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583 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=4*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+5*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+8*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+3*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=4000+500+80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 flipH="1">
            <a:off x="0" y="1523880"/>
            <a:ext cx="6477120" cy="1600200"/>
          </a:xfrm>
          <a:prstGeom prst="wedgeRoundRectCallout">
            <a:avLst>
              <a:gd name="adj1" fmla="val -14143"/>
              <a:gd name="adj2" fmla="val 118416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е мы все эти импульсы сможем прочитать, ведь они могут быть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и могут не быть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 можем чит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ь ребята не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 flipH="1">
            <a:off x="3656880" y="380880"/>
            <a:ext cx="5181480" cy="3124440"/>
          </a:xfrm>
          <a:prstGeom prst="wedgeRoundRectCallout">
            <a:avLst>
              <a:gd name="adj1" fmla="val -42870"/>
              <a:gd name="adj2" fmla="val 67430"/>
              <a:gd name="adj3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м ребят записывать это с помощью чисел, используя только  цифры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, расскажем о представлении числов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комим ребят с двоичной системой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6" descr=""/>
          <p:cNvPicPr/>
          <p:nvPr/>
        </p:nvPicPr>
        <p:blipFill>
          <a:blip r:embed="rId4"/>
          <a:stretch/>
        </p:blipFill>
        <p:spPr>
          <a:xfrm>
            <a:off x="109440" y="-133200"/>
            <a:ext cx="9047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воичная позицион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лфави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воичной позиционной системы счислен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,1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нование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оичной позиционной системы счисления –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? Вопрос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гут ли в двоичной системе счисления быть так записаны числ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4724280"/>
          <a:ext cx="609624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11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1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2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76" name="Text Box 24"/>
          <p:cNvSpPr/>
          <p:nvPr/>
        </p:nvSpPr>
        <p:spPr>
          <a:xfrm>
            <a:off x="58672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79132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5791320" y="6172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так, в двоичной системе счисления можно использовать для записи чисел только цифры 1 и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могут ли быть так записаны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00400"/>
          <a:ext cx="6019920" cy="243828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11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1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be0e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2" name="Text Box 29"/>
          <p:cNvSpPr/>
          <p:nvPr/>
        </p:nvSpPr>
        <p:spPr>
          <a:xfrm>
            <a:off x="50292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50292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49528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438280" y="6858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52480" y="6858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143000" y="685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520" y="685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800600" y="11430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79132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280" y="1066680"/>
            <a:ext cx="36576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1001</a:t>
            </a:r>
            <a:r>
              <a:rPr b="1" lang="ru-RU" sz="7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791320" y="2819520"/>
            <a:ext cx="76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124080" y="281952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0" y="28195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962520" y="1143000"/>
            <a:ext cx="76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324480" y="11430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7086600" y="990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543800" y="15238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066680" y="3276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600200" y="281952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4382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590920" y="3124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410080" y="31240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3962520" y="3276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419720" y="28195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5257800" y="2743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477120" y="3276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6934320" y="281952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7696080" y="2743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8153280" y="281952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0" y="41911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2362320" y="4495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2743200" y="4191120"/>
            <a:ext cx="19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4495680" y="4495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4952880" y="4191120"/>
            <a:ext cx="221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6629400" y="4495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7010280" y="41911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990720" y="5424480"/>
            <a:ext cx="51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5943600" y="5424480"/>
            <a:ext cx="26668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48104603_1251530676_11_3"/>
          <p:cNvPicPr/>
          <p:nvPr/>
        </p:nvPicPr>
        <p:blipFill>
          <a:blip r:embed="rId1"/>
          <a:stretch/>
        </p:blipFill>
        <p:spPr>
          <a:xfrm>
            <a:off x="228600" y="4343400"/>
            <a:ext cx="2666880" cy="2330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админ\Desktop\к уроку картинки\fix.png"/>
          <p:cNvPicPr/>
          <p:nvPr/>
        </p:nvPicPr>
        <p:blipFill>
          <a:blip r:embed="rId2"/>
          <a:stretch/>
        </p:blipFill>
        <p:spPr>
          <a:xfrm>
            <a:off x="6324480" y="4038480"/>
            <a:ext cx="2791080" cy="27320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9960" y="317520"/>
            <a:ext cx="7351560" cy="202392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9800" y="2371680"/>
            <a:ext cx="81136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820000" cy="366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админ\Desktop\к уроку картинки\Vipusk faksiki.png"/>
          <p:cNvPicPr/>
          <p:nvPr/>
        </p:nvPicPr>
        <p:blipFill>
          <a:blip r:embed="rId2"/>
          <a:stretch/>
        </p:blipFill>
        <p:spPr>
          <a:xfrm>
            <a:off x="-228600" y="3886200"/>
            <a:ext cx="3429000" cy="321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Users\админ\Desktop\к уроку картинки\fix.png"/>
          <p:cNvPicPr/>
          <p:nvPr/>
        </p:nvPicPr>
        <p:blipFill>
          <a:blip r:embed="rId3"/>
          <a:stretch/>
        </p:blipFill>
        <p:spPr>
          <a:xfrm>
            <a:off x="5867280" y="4125960"/>
            <a:ext cx="2791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002"/>
          <p:cNvPicPr/>
          <p:nvPr/>
        </p:nvPicPr>
        <p:blipFill>
          <a:blip r:embed="rId1"/>
          <a:stretch/>
        </p:blipFill>
        <p:spPr>
          <a:xfrm>
            <a:off x="378000" y="76320"/>
            <a:ext cx="8385120" cy="4305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админ\Desktop\к уроку картинки\47366f6f0ff5a735d756407aff5e8132.png.png"/>
          <p:cNvPicPr/>
          <p:nvPr/>
        </p:nvPicPr>
        <p:blipFill>
          <a:blip r:embed="rId2"/>
          <a:stretch/>
        </p:blipFill>
        <p:spPr>
          <a:xfrm rot="20676600">
            <a:off x="2022480" y="4784760"/>
            <a:ext cx="5268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админ\Desktop\к уроку картинки\185368_html_m4def61be.png"/>
          <p:cNvPicPr/>
          <p:nvPr/>
        </p:nvPicPr>
        <p:blipFill>
          <a:blip r:embed="rId1"/>
          <a:stretch/>
        </p:blipFill>
        <p:spPr>
          <a:xfrm>
            <a:off x="-228600" y="4162320"/>
            <a:ext cx="287640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4638" t="15456" r="6957" b="9836"/>
          <a:stretch/>
        </p:blipFill>
        <p:spPr>
          <a:xfrm>
            <a:off x="5638680" y="652320"/>
            <a:ext cx="3294360" cy="2297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3"/>
          <a:stretch/>
        </p:blipFill>
        <p:spPr>
          <a:xfrm>
            <a:off x="6546960" y="255600"/>
            <a:ext cx="136512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609480" y="2438280"/>
            <a:ext cx="1933560" cy="15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2971800" y="1600200"/>
            <a:ext cx="1835280" cy="206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zarub"/>
          <p:cNvPicPr/>
          <p:nvPr/>
        </p:nvPicPr>
        <p:blipFill>
          <a:blip r:embed="rId6"/>
          <a:stretch/>
        </p:blipFill>
        <p:spPr>
          <a:xfrm>
            <a:off x="4826160" y="3429000"/>
            <a:ext cx="4317840" cy="5587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7"/>
          <a:stretch/>
        </p:blipFill>
        <p:spPr>
          <a:xfrm>
            <a:off x="-146160" y="-347760"/>
            <a:ext cx="704700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админ\Desktop\к уроку картинки\getImage.jpeg"/>
          <p:cNvPicPr/>
          <p:nvPr/>
        </p:nvPicPr>
        <p:blipFill>
          <a:blip r:embed="rId8"/>
          <a:stretch/>
        </p:blipFill>
        <p:spPr>
          <a:xfrm>
            <a:off x="5562720" y="4267080"/>
            <a:ext cx="3429000" cy="242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9"/>
          <a:stretch/>
        </p:blipFill>
        <p:spPr>
          <a:xfrm>
            <a:off x="2720880" y="4267080"/>
            <a:ext cx="6270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админ\Desktop\к уроку картинки\72971.jpg"/>
          <p:cNvPicPr/>
          <p:nvPr/>
        </p:nvPicPr>
        <p:blipFill>
          <a:blip r:embed="rId1"/>
          <a:srcRect l="0" t="13896" r="0" b="3474"/>
          <a:stretch/>
        </p:blipFill>
        <p:spPr>
          <a:xfrm>
            <a:off x="1295280" y="1600200"/>
            <a:ext cx="7342200" cy="376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админ\Desktop\к уроку картинки\fix.png"/>
          <p:cNvPicPr/>
          <p:nvPr/>
        </p:nvPicPr>
        <p:blipFill>
          <a:blip r:embed="rId2"/>
          <a:stretch/>
        </p:blipFill>
        <p:spPr>
          <a:xfrm>
            <a:off x="6200640" y="3976560"/>
            <a:ext cx="294336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egip1"/>
          <p:cNvPicPr/>
          <p:nvPr/>
        </p:nvPicPr>
        <p:blipFill>
          <a:blip r:embed="rId3"/>
          <a:stretch/>
        </p:blipFill>
        <p:spPr>
          <a:xfrm>
            <a:off x="7924680" y="457200"/>
            <a:ext cx="1333800" cy="2638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1676520" y="3276720"/>
            <a:ext cx="3962160" cy="1895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5562720" y="3733920"/>
            <a:ext cx="714240" cy="8953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4" descr=""/>
          <p:cNvPicPr/>
          <p:nvPr/>
        </p:nvPicPr>
        <p:blipFill>
          <a:blip r:embed="rId6"/>
          <a:stretch/>
        </p:blipFill>
        <p:spPr>
          <a:xfrm>
            <a:off x="5218200" y="3029040"/>
            <a:ext cx="2816280" cy="18176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76320" y="0"/>
            <a:ext cx="1877760" cy="2057400"/>
            <a:chOff x="76320" y="0"/>
            <a:chExt cx="1877760" cy="2057400"/>
          </a:xfrm>
        </p:grpSpPr>
        <p:sp>
          <p:nvSpPr>
            <p:cNvPr id="71" name="Oval 28"/>
            <p:cNvSpPr/>
            <p:nvPr/>
          </p:nvSpPr>
          <p:spPr>
            <a:xfrm>
              <a:off x="76320" y="0"/>
              <a:ext cx="1877760" cy="20574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29" descr="logo1-3[1]"/>
            <p:cNvPicPr/>
            <p:nvPr/>
          </p:nvPicPr>
          <p:blipFill>
            <a:blip r:embed="rId7"/>
            <a:stretch/>
          </p:blipFill>
          <p:spPr>
            <a:xfrm>
              <a:off x="454320" y="312840"/>
              <a:ext cx="1170360" cy="17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Прямоугольник 18"/>
          <p:cNvSpPr/>
          <p:nvPr/>
        </p:nvSpPr>
        <p:spPr>
          <a:xfrm>
            <a:off x="251460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ревнеегип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есятич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914400"/>
            <a:ext cx="4419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алец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скрытая ладонь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ве ладони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0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mimil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имская система счисл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админ\Desktop\к уроку картинки\DSC_7465.jpg"/>
          <p:cNvPicPr/>
          <p:nvPr/>
        </p:nvPicPr>
        <p:blipFill>
          <a:blip r:embed="rId1"/>
          <a:stretch/>
        </p:blipFill>
        <p:spPr>
          <a:xfrm>
            <a:off x="4495680" y="914400"/>
            <a:ext cx="2266920" cy="3048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4648320" y="5870160"/>
            <a:ext cx="33526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MCMX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8" descr=""/>
          <p:cNvPicPr/>
          <p:nvPr/>
        </p:nvPicPr>
        <p:blipFill>
          <a:blip r:embed="rId2"/>
          <a:stretch/>
        </p:blipFill>
        <p:spPr>
          <a:xfrm>
            <a:off x="6589800" y="4863960"/>
            <a:ext cx="3187440" cy="20545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9"/>
          <p:cNvSpPr/>
          <p:nvPr/>
        </p:nvSpPr>
        <p:spPr>
          <a:xfrm>
            <a:off x="228600" y="4572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еличина числа определяется как сумма или разность  чисел. Если меньшая цифра стоит слева от большей, то она вычитается, если   справа- приба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04920" y="579132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L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CVI- </a:t>
            </a:r>
            <a:r>
              <a:rPr b="1" lang="ru-RU" sz="2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вяносто ш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5435" t="14600" r="7502" b="8712"/>
          <a:stretch/>
        </p:blipFill>
        <p:spPr>
          <a:xfrm>
            <a:off x="228600" y="1371600"/>
            <a:ext cx="5195880" cy="3941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22860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Алфавитные системы счисления – числа изображались буквами алфав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609480" y="533412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сь алфавитными символами могла делаться в любом порядке, так как число получалось как сумма значений отдельных бук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админ\Desktop\к уроку картинки\Vipusk faksiki.png"/>
          <p:cNvPicPr/>
          <p:nvPr/>
        </p:nvPicPr>
        <p:blipFill>
          <a:blip r:embed="rId2"/>
          <a:stretch/>
        </p:blipFill>
        <p:spPr>
          <a:xfrm>
            <a:off x="5410080" y="1143000"/>
            <a:ext cx="3364200" cy="315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6098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60948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5238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7086600" y="4572000"/>
            <a:ext cx="52380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7"/>
          <a:stretch/>
        </p:blipFill>
        <p:spPr>
          <a:xfrm>
            <a:off x="7543800" y="4572000"/>
            <a:ext cx="3049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"/>
          <p:cNvPicPr/>
          <p:nvPr/>
        </p:nvPicPr>
        <p:blipFill>
          <a:blip r:embed="rId8"/>
          <a:stretch/>
        </p:blipFill>
        <p:spPr>
          <a:xfrm>
            <a:off x="7848720" y="457200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5" descr=""/>
          <p:cNvPicPr/>
          <p:nvPr/>
        </p:nvPicPr>
        <p:blipFill>
          <a:blip r:embed="rId9"/>
          <a:stretch/>
        </p:blipFill>
        <p:spPr>
          <a:xfrm>
            <a:off x="7845480" y="4181400"/>
            <a:ext cx="15606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8" descr="http://www.anastasi-shherbakova.narod.ru/images/clip_image044.jpg"/>
          <p:cNvPicPr/>
          <p:nvPr/>
        </p:nvPicPr>
        <p:blipFill>
          <a:blip r:embed="rId1"/>
          <a:stretch/>
        </p:blipFill>
        <p:spPr>
          <a:xfrm>
            <a:off x="152280" y="1752480"/>
            <a:ext cx="4108680" cy="3611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609480" y="22860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ДРЕВНЕ-РУССКАЯ АЛФАВИТН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Comic Sans MS"/>
                <a:ea typeface="Times New Roman"/>
              </a:rPr>
              <a:t>Чтобы различать буквы и цифры, над числами ставился особый значок — </a:t>
            </a:r>
            <a:r>
              <a:rPr b="1" lang="ru-RU" sz="1800" spc="-1" strike="noStrike" u="sng">
                <a:solidFill>
                  <a:srgbClr val="055328"/>
                </a:solidFill>
                <a:uFillTx/>
                <a:latin typeface="Comic Sans MS"/>
                <a:ea typeface="Times New Roman"/>
              </a:rPr>
              <a:t>титло</a:t>
            </a:r>
            <a:r>
              <a:rPr b="1" lang="ru-RU" sz="1800" spc="-1" strike="noStrike">
                <a:solidFill>
                  <a:srgbClr val="055328"/>
                </a:solidFill>
                <a:latin typeface="Comic Sans MS"/>
                <a:ea typeface="Times New Roman"/>
              </a:rPr>
              <a:t> ( ~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267080" cy="105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4343400" y="4952880"/>
            <a:ext cx="689040" cy="582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9"/>
          <p:cNvSpPr/>
          <p:nvPr/>
        </p:nvSpPr>
        <p:spPr>
          <a:xfrm>
            <a:off x="6553080" y="41911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atisse ITC"/>
              </a:rPr>
              <a:t>(Леги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5105520" y="4952880"/>
            <a:ext cx="175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atisse ITC"/>
              </a:rPr>
              <a:t>   </a:t>
            </a:r>
            <a:r>
              <a:rPr b="1" lang="ru-RU" sz="2400" spc="-1" strike="noStrike">
                <a:solidFill>
                  <a:srgbClr val="6600cc"/>
                </a:solidFill>
                <a:latin typeface="Matisse ITC"/>
              </a:rPr>
              <a:t>-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1000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723000" y="49528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atisse ITC"/>
              </a:rPr>
              <a:t>(Леор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3" descr=""/>
          <p:cNvPicPr/>
          <p:nvPr/>
        </p:nvPicPr>
        <p:blipFill>
          <a:blip r:embed="rId4"/>
          <a:stretch/>
        </p:blipFill>
        <p:spPr>
          <a:xfrm>
            <a:off x="4419720" y="5562720"/>
            <a:ext cx="628560" cy="595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4"/>
          <p:cNvSpPr/>
          <p:nvPr/>
        </p:nvSpPr>
        <p:spPr>
          <a:xfrm>
            <a:off x="6781680" y="5638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atisse ITC"/>
              </a:rPr>
              <a:t>(Вор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5181480" y="5562720"/>
            <a:ext cx="17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atisse ITC"/>
              </a:rPr>
              <a:t>-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61740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6"/>
          <a:stretch/>
        </p:blipFill>
        <p:spPr>
          <a:xfrm>
            <a:off x="4419720" y="4191120"/>
            <a:ext cx="63324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5"/>
          <p:cNvSpPr/>
          <p:nvPr/>
        </p:nvSpPr>
        <p:spPr>
          <a:xfrm>
            <a:off x="5257800" y="335268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atisse ITC"/>
              </a:rPr>
              <a:t>-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6400800" y="335268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atisse ITC"/>
              </a:rPr>
              <a:t>(Ть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181480" y="419112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Matisse ITC"/>
              </a:rPr>
              <a:t>-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2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6" descr=""/>
          <p:cNvPicPr/>
          <p:nvPr/>
        </p:nvPicPr>
        <p:blipFill>
          <a:blip r:embed="rId7"/>
          <a:stretch/>
        </p:blipFill>
        <p:spPr>
          <a:xfrm>
            <a:off x="4538520" y="6124680"/>
            <a:ext cx="514440" cy="733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0"/>
          <p:cNvSpPr/>
          <p:nvPr/>
        </p:nvSpPr>
        <p:spPr>
          <a:xfrm>
            <a:off x="5181480" y="62676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-10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304920" y="5867280"/>
            <a:ext cx="581040" cy="723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9"/>
          <a:stretch/>
        </p:blipFill>
        <p:spPr>
          <a:xfrm>
            <a:off x="838080" y="5867280"/>
            <a:ext cx="581040" cy="723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10"/>
          <a:stretch/>
        </p:blipFill>
        <p:spPr>
          <a:xfrm>
            <a:off x="1371600" y="5867280"/>
            <a:ext cx="447840" cy="66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11"/>
          <a:stretch/>
        </p:blipFill>
        <p:spPr>
          <a:xfrm>
            <a:off x="1828800" y="5867280"/>
            <a:ext cx="361800" cy="6573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2" descr=""/>
          <p:cNvPicPr/>
          <p:nvPr/>
        </p:nvPicPr>
        <p:blipFill>
          <a:blip r:embed="rId12"/>
          <a:stretch/>
        </p:blipFill>
        <p:spPr>
          <a:xfrm>
            <a:off x="1676520" y="4863960"/>
            <a:ext cx="318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Цыпленок Цыпа танцует"/>
          <p:cNvPicPr/>
          <p:nvPr/>
        </p:nvPicPr>
        <p:blipFill>
          <a:blip r:embed="rId1"/>
          <a:stretch/>
        </p:blipFill>
        <p:spPr>
          <a:xfrm>
            <a:off x="1752480" y="1295280"/>
            <a:ext cx="6216840" cy="43434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7" descr=""/>
          <p:cNvPicPr/>
          <p:nvPr/>
        </p:nvPicPr>
        <p:blipFill>
          <a:blip r:embed="rId2"/>
          <a:stretch/>
        </p:blipFill>
        <p:spPr>
          <a:xfrm>
            <a:off x="133200" y="208080"/>
            <a:ext cx="401184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8" descr=""/>
          <p:cNvPicPr/>
          <p:nvPr/>
        </p:nvPicPr>
        <p:blipFill>
          <a:blip r:embed="rId3"/>
          <a:stretch/>
        </p:blipFill>
        <p:spPr>
          <a:xfrm>
            <a:off x="2786040" y="4211640"/>
            <a:ext cx="5931000" cy="2274840"/>
          </a:xfrm>
          <a:prstGeom prst="rect">
            <a:avLst/>
          </a:prstGeom>
          <a:ln w="0">
            <a:noFill/>
          </a:ln>
        </p:spPr>
      </p:pic>
      <p:pic>
        <p:nvPicPr>
          <p:cNvPr id="117" name="Fiksiki_A_kto_takie_fiksiki_vmusice.net.mp3" descr=""/>
          <p:cNvPicPr/>
          <p:nvPr/>
        </p:nvPicPr>
        <p:blipFill>
          <a:blip r:embed="rId4"/>
          <a:stretch/>
        </p:blipFill>
        <p:spPr>
          <a:xfrm>
            <a:off x="8991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913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07440" y="1268280"/>
            <a:ext cx="39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2800"/>
                </a:solidFill>
                <a:latin typeface="Calibri"/>
              </a:rPr>
              <a:t>3  тысячи  лет до н.э.</a:t>
            </a:r>
            <a:r>
              <a:rPr b="1" lang="en-US" sz="3200" spc="-1" strike="noStrike">
                <a:solidFill>
                  <a:srgbClr val="5028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72480" y="287352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еди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18760" y="287352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деся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293000" y="371628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=   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8"/>
          <p:cNvSpPr/>
          <p:nvPr/>
        </p:nvSpPr>
        <p:spPr>
          <a:xfrm rot="5400000">
            <a:off x="2760480" y="286056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9"/>
          <p:cNvSpPr/>
          <p:nvPr/>
        </p:nvSpPr>
        <p:spPr>
          <a:xfrm>
            <a:off x="395280" y="285264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725040" y="184464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циф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2700360" y="184464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35304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"/>
          <p:cNvSpPr/>
          <p:nvPr/>
        </p:nvSpPr>
        <p:spPr>
          <a:xfrm rot="5400000">
            <a:off x="4276440" y="1924200"/>
            <a:ext cx="360360" cy="63324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2627280" y="371628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5"/>
          <p:cNvSpPr/>
          <p:nvPr/>
        </p:nvSpPr>
        <p:spPr>
          <a:xfrm>
            <a:off x="3203640" y="371628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6"/>
          <p:cNvSpPr/>
          <p:nvPr/>
        </p:nvSpPr>
        <p:spPr>
          <a:xfrm rot="5400000">
            <a:off x="604440" y="3724200"/>
            <a:ext cx="360360" cy="63324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7"/>
          <p:cNvSpPr/>
          <p:nvPr/>
        </p:nvSpPr>
        <p:spPr>
          <a:xfrm rot="5400000">
            <a:off x="1252440" y="372384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8"/>
          <p:cNvSpPr/>
          <p:nvPr/>
        </p:nvSpPr>
        <p:spPr>
          <a:xfrm rot="5400000">
            <a:off x="1900080" y="372384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057640" y="285264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2"/>
          <p:cNvGrpSpPr/>
          <p:nvPr/>
        </p:nvGrpSpPr>
        <p:grpSpPr>
          <a:xfrm>
            <a:off x="5327280" y="2852640"/>
            <a:ext cx="3531960" cy="541440"/>
            <a:chOff x="5327280" y="2852640"/>
            <a:chExt cx="3531960" cy="541440"/>
          </a:xfrm>
        </p:grpSpPr>
        <p:sp>
          <p:nvSpPr>
            <p:cNvPr id="135" name="Text Box 19"/>
            <p:cNvSpPr/>
            <p:nvPr/>
          </p:nvSpPr>
          <p:spPr>
            <a:xfrm>
              <a:off x="5327280" y="2873520"/>
              <a:ext cx="7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-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5755320" y="285264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 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;</a:t>
              </a: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60</a:t>
              </a:r>
              <a:r>
                <a:rPr b="1" lang="ru-RU" sz="2800" spc="-1" strike="noStrike" baseline="30000">
                  <a:solidFill>
                    <a:srgbClr val="6633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2"/>
            <p:cNvSpPr/>
            <p:nvPr/>
          </p:nvSpPr>
          <p:spPr>
            <a:xfrm>
              <a:off x="6562080" y="285264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 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;</a:t>
              </a: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60</a:t>
              </a:r>
              <a:r>
                <a:rPr b="1" lang="ru-RU" sz="2800" spc="-1" strike="noStrike" baseline="30000">
                  <a:solidFill>
                    <a:srgbClr val="6633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3"/>
            <p:cNvSpPr/>
            <p:nvPr/>
          </p:nvSpPr>
          <p:spPr>
            <a:xfrm>
              <a:off x="7357320" y="2852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 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;</a:t>
              </a: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…</a:t>
              </a:r>
              <a:r>
                <a:rPr b="1" lang="en-US" sz="2800" spc="-1" strike="noStrike">
                  <a:solidFill>
                    <a:srgbClr val="663300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663300"/>
                  </a:solidFill>
                  <a:latin typeface="Calibri"/>
                </a:rPr>
                <a:t>; 60</a:t>
              </a:r>
              <a:r>
                <a:rPr b="1" lang="en-US" sz="2800" spc="-1" strike="noStrike" baseline="30000">
                  <a:solidFill>
                    <a:srgbClr val="663300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reeform 24"/>
          <p:cNvSpPr/>
          <p:nvPr/>
        </p:nvSpPr>
        <p:spPr>
          <a:xfrm>
            <a:off x="2987640" y="458136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"/>
          <p:cNvSpPr/>
          <p:nvPr/>
        </p:nvSpPr>
        <p:spPr>
          <a:xfrm>
            <a:off x="3706920" y="458136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 rot="5400000">
            <a:off x="2130120" y="4589640"/>
            <a:ext cx="360360" cy="63324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539640" y="458136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307760" y="458784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=   60 + 20 + 2  = 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3"/>
          <p:cNvSpPr/>
          <p:nvPr/>
        </p:nvSpPr>
        <p:spPr>
          <a:xfrm rot="5400000">
            <a:off x="1266480" y="4587840"/>
            <a:ext cx="360360" cy="63324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6"/>
          <p:cNvSpPr/>
          <p:nvPr/>
        </p:nvSpPr>
        <p:spPr>
          <a:xfrm>
            <a:off x="3780000" y="3716280"/>
            <a:ext cx="360360" cy="6336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663300"/>
          </a:solidFill>
          <a:ln w="57240">
            <a:solidFill>
              <a:srgbClr val="50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0" y="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Вавилонска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систем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30" descr=""/>
          <p:cNvPicPr/>
          <p:nvPr/>
        </p:nvPicPr>
        <p:blipFill>
          <a:blip r:embed="rId1"/>
          <a:stretch/>
        </p:blipFill>
        <p:spPr>
          <a:xfrm>
            <a:off x="268200" y="4863960"/>
            <a:ext cx="3187800" cy="2054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2747880" y="571500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Text Box 5"/>
          <p:cNvGrpSpPr/>
          <p:nvPr/>
        </p:nvGrpSpPr>
        <p:grpSpPr>
          <a:xfrm>
            <a:off x="4846680" y="60480"/>
            <a:ext cx="4200480" cy="2414520"/>
            <a:chOff x="4846680" y="60480"/>
            <a:chExt cx="4200480" cy="2414520"/>
          </a:xfrm>
        </p:grpSpPr>
        <p:pic>
          <p:nvPicPr>
            <p:cNvPr id="150" name="Text Box 5" descr=""/>
            <p:cNvPicPr/>
            <p:nvPr/>
          </p:nvPicPr>
          <p:blipFill>
            <a:blip r:embed="rId2"/>
            <a:stretch/>
          </p:blipFill>
          <p:spPr>
            <a:xfrm>
              <a:off x="4846680" y="60480"/>
              <a:ext cx="42004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29200" y="152280"/>
              <a:ext cx="396252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06060"/>
                  </a:solidFill>
                  <a:latin typeface="Arial"/>
                </a:rPr>
                <a:t>1 час = 60 мину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06060"/>
                  </a:solidFill>
                  <a:latin typeface="Arial"/>
                </a:rPr>
                <a:t>1 минута = 60 секун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06060"/>
                  </a:solidFill>
                  <a:latin typeface="Arial"/>
                </a:rPr>
                <a:t>Полный угол = 360 градус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38" descr="вав"/>
          <p:cNvPicPr/>
          <p:nvPr/>
        </p:nvPicPr>
        <p:blipFill>
          <a:blip r:embed="rId3"/>
          <a:stretch/>
        </p:blipFill>
        <p:spPr>
          <a:xfrm>
            <a:off x="7215120" y="4122720"/>
            <a:ext cx="192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нил паньков</dc:creator>
  <dc:description/>
  <dc:language>en-US</dc:language>
  <cp:lastModifiedBy>оооо</cp:lastModifiedBy>
  <dcterms:modified xsi:type="dcterms:W3CDTF">2015-04-02T03:20:31Z</dcterms:modified>
  <cp:revision>2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